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11.png" ContentType="image/png"/>
  <Override PartName="/ppt/media/image6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22.wmf" ContentType="image/x-wmf"/>
  <Override PartName="/ppt/media/image20.gif" ContentType="image/gif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4.wmf" ContentType="image/x-wmf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A72-0287-412E-90B5-E1233764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9D9-D2AA-4921-99D5-29736B68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106C-18CA-4130-8D57-617B935D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87B-2D4B-416C-AD36-A1C97BA2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0B9A-BBEB-465E-9C30-55F1B276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1462-61B9-4FA0-9C58-72E233E7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3B68-A2E3-423A-B195-455852BC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CEB5-934E-4C5D-BC56-28909F05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8E45-3D51-4C6A-BE1A-5E011AE8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0703-AEC9-4D48-ACEB-968F8FFA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AB3E-1E25-4550-83AC-5A254DB2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532-A750-4585-A1F1-5444669C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262F-720C-4C06-AD7E-12BD87EF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8FCF-A88A-4388-9AED-858CA9AC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0F2B-5421-46BC-8E84-9D26A43D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8D41-199D-4414-902A-D1A2E6FE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6CFF-51CE-4D2D-85FE-B9260937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F088-766B-4617-89AC-B2761B2A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713-4127-4B96-83F8-F68D1311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BC1D-514C-44A9-B342-9BA8EE25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BB55-EAC1-43E1-8E95-10BE07C8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711-FE19-407E-9356-7FCB9A7E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0F45-A556-4717-A0AE-0DD7A534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B1F-274F-41BD-BC60-1359AA9F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EA59-297F-412D-9498-F4324D85347A}" type="slidenum">
              <a:rPr b="0" lang="en-A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7493-FA73-4969-9622-419E20E817B6}" type="slidenum">
              <a:rPr b="0" lang="en-A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1" action="ppaction://hlinksldjump"/>
              </a:rPr>
              <a:t>Aloft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Autopilot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3" action="ppaction://hlinksldjump"/>
              </a:rPr>
              <a:t>Desce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4" action="ppaction://hlinksldjump"/>
              </a:rPr>
              <a:t>Engine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5" action="ppaction://hlinksldjump"/>
              </a:rPr>
              <a:t>Flaps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6" action="ppaction://hlinksldjump"/>
              </a:rPr>
              <a:t>Launch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7" action="ppaction://hlinksldjump"/>
              </a:rPr>
              <a:t>Prop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8" action="ppaction://hlinksldjump"/>
              </a:rPr>
              <a:t>Propeller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9" action="ppaction://hlinksldjump"/>
              </a:rPr>
              <a:t>Radar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10" action="ppaction://hlinksldjump"/>
              </a:rPr>
              <a:t>Thrust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3" name="Rectangle 5" descr=""/>
          <p:cNvPicPr/>
          <p:nvPr/>
        </p:nvPicPr>
        <p:blipFill>
          <a:blip r:embed="rId11"/>
          <a:stretch/>
        </p:blipFill>
        <p:spPr>
          <a:xfrm>
            <a:off x="1920960" y="1517760"/>
            <a:ext cx="536400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aning= a system that uses reflected radio waves to determine the presence, location, and speed of distant objec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lick here to go back to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Picture 5" descr="C:\Program Files\Microsoft Office\Media\CntCD1\Animated\j0234742.gif"/>
          <p:cNvPicPr/>
          <p:nvPr/>
        </p:nvPicPr>
        <p:blipFill>
          <a:blip r:embed="rId2"/>
          <a:stretch/>
        </p:blipFill>
        <p:spPr>
          <a:xfrm>
            <a:off x="4643280" y="4143240"/>
            <a:ext cx="329112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aning= somebody or something with a single movement of considerable forc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lick to en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Picture 4" descr="C:\Program Files\Microsoft Office\Media\CntCD1\ClipArt4\j0251983.wmf"/>
          <p:cNvPicPr/>
          <p:nvPr/>
        </p:nvPicPr>
        <p:blipFill>
          <a:blip r:embed="rId2"/>
          <a:stretch/>
        </p:blipFill>
        <p:spPr>
          <a:xfrm>
            <a:off x="4786200" y="3571920"/>
            <a:ext cx="380232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aning= automatic pilo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Click here 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o go back to go back to the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4" descr="C:\Program Files\Microsoft Office\Media\CntCD1\ClipArt3\j0233074.wmf"/>
          <p:cNvPicPr/>
          <p:nvPr/>
        </p:nvPicPr>
        <p:blipFill>
          <a:blip r:embed="rId3"/>
          <a:stretch/>
        </p:blipFill>
        <p:spPr>
          <a:xfrm>
            <a:off x="4143240" y="3571920"/>
            <a:ext cx="314352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aning= high up in the air or above the groun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lick here to go back to the glossary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4" descr="C:\Program Files\Microsoft Office\Media\CntCD1\ClipArt3\j0233076.wmf"/>
          <p:cNvPicPr/>
          <p:nvPr/>
        </p:nvPicPr>
        <p:blipFill>
          <a:blip r:embed="rId2"/>
          <a:stretch/>
        </p:blipFill>
        <p:spPr>
          <a:xfrm>
            <a:off x="5000760" y="3929040"/>
            <a:ext cx="27460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aning= to move from a high spot to a lower spo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lick here to go back to the glossar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Picture 4" descr="C:\Program Files\Microsoft Office\Media\CntCD1\ClipArt3\j0233072.wmf"/>
          <p:cNvPicPr/>
          <p:nvPr/>
        </p:nvPicPr>
        <p:blipFill>
          <a:blip r:embed="rId2"/>
          <a:stretch/>
        </p:blipFill>
        <p:spPr>
          <a:xfrm>
            <a:off x="5286240" y="4286160"/>
            <a:ext cx="27655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aning= a machine that converts an energy source into mechanical power or motion.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lick here to go back to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4" descr="C:\Program Files\Microsoft Office\Media\CntCD1\Photo1\j0201172.jpg"/>
          <p:cNvPicPr/>
          <p:nvPr/>
        </p:nvPicPr>
        <p:blipFill>
          <a:blip r:embed="rId2"/>
          <a:stretch/>
        </p:blipFill>
        <p:spPr>
          <a:xfrm>
            <a:off x="4572000" y="385776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aning/definition=  lets the plane turn and go up and dow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lick here to go back to the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5" descr="C:\Program Files\Microsoft Office\Media\CntCD1\ClipArt5\j0285540.wmf"/>
          <p:cNvPicPr/>
          <p:nvPr/>
        </p:nvPicPr>
        <p:blipFill>
          <a:blip r:embed="rId2"/>
          <a:stretch/>
        </p:blipFill>
        <p:spPr>
          <a:xfrm>
            <a:off x="4857840" y="4286160"/>
            <a:ext cx="267804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aning= to send a rocket, missile, or spacecraft into the air or the upper atmosph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lick here to go back to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Picture 4" descr="C:\Program Files\Microsoft Office\Media\CntCD1\ClipArt2\j0229143.wmf"/>
          <p:cNvPicPr/>
          <p:nvPr/>
        </p:nvPicPr>
        <p:blipFill>
          <a:blip r:embed="rId2"/>
          <a:stretch/>
        </p:blipFill>
        <p:spPr>
          <a:xfrm>
            <a:off x="5143680" y="4500720"/>
            <a:ext cx="261288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aning= to move or push somebody or something forward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lick here to go back to the glossar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Picture 4" descr="C:\Program Files\Microsoft Office\Media\CntCD1\ClipArt2\j0229075.wmf"/>
          <p:cNvPicPr/>
          <p:nvPr/>
        </p:nvPicPr>
        <p:blipFill>
          <a:blip r:embed="rId2"/>
          <a:stretch/>
        </p:blipFill>
        <p:spPr>
          <a:xfrm>
            <a:off x="4071960" y="4286160"/>
            <a:ext cx="39672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aning= a revolving shaft with spiral blades that causes a ship or an aircraft to move by the backward thrust of water or ai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lick here to go back to the glossar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4" descr="C:\Program Files\Microsoft Office\Media\CntCD1\ClipArt1\j0198893.wmf"/>
          <p:cNvPicPr/>
          <p:nvPr/>
        </p:nvPicPr>
        <p:blipFill>
          <a:blip r:embed="rId2"/>
          <a:stretch/>
        </p:blipFill>
        <p:spPr>
          <a:xfrm>
            <a:off x="4572000" y="4429080"/>
            <a:ext cx="29559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23:46:21Z</dcterms:created>
  <dc:creator>Education</dc:creator>
  <dc:description/>
  <dc:language>en-US</dc:language>
  <cp:lastModifiedBy>Education</cp:lastModifiedBy>
  <dcterms:modified xsi:type="dcterms:W3CDTF">2009-07-24T02:32:04Z</dcterms:modified>
  <cp:revision>15</cp:revision>
  <dc:subject/>
  <dc:title>Flight Glossary</dc:title>
</cp:coreProperties>
</file>